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66A-68BC-4712-9A1C-5A23D1EA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2B8-C13F-40D1-B022-973FF12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618-3DF2-4A16-AA41-33F96E7A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681-43C5-4517-B258-3382AE9E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B02-46FC-4DEC-902D-A8C9A8FD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27AF-2EB3-4DDF-8336-71251A6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104E-154A-4A02-94DB-D5B6BBE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53D-6303-410F-8A37-C6E1E3F2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0DD6-B9FA-4014-9ACB-72E0BD1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F00-63BF-4E18-A4EA-ED2C3F0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6DB-6D89-403D-A150-693FE05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919-B0AA-463E-B9D0-337C984B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6C73-A0C3-42F6-8C4E-BC141DBA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C0F-CE88-438D-8817-E6802C4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DF5-AE25-476A-9E29-EE6894E0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CE9-9241-4247-84D4-59254B2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BBDB-C1B2-45C5-8DB3-E2F479F7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6A9-D247-4106-8E2F-1E73BF8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FF0-0278-47A7-BE85-BF96964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542-7483-47C8-98DB-6B1F855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C56-3725-4257-B366-B4658D6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D69-ADA3-4622-9A10-1E316B8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99D-8969-4C56-BD1E-45A72EE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8B-B4A9-463A-83ED-E47BB18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367-3E8D-469B-B61B-396FD9D95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12B-07B2-4D77-B73B-FD651023621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Constitu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vention, Bill of Rights, &amp; Rat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/3 of both houses of Congr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/4 of all states- states decide how to ratify (vote of people, vote of legislature,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amendment is ratified, becomes official part of Constitution and must be followed by all laws, court decisi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Unit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itary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s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itish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s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 colon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iginal U.S. government after in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power to states, weak central gov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pres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ress couldn’t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Confed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federation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 st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stitutional Co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 secretly in Philadelphia- feared another rebell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ly merchants, lawyers, &amp; plant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Fede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eral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ares power w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ares power w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 Key Constitutional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Federalism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hared power between central (federal) government and smaller components (states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opular Sovereignty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Government by consent of the governe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eparation of power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3 branches with different responsibiliti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Checks and balanc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No branch gets too much power (others check each other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imited governmen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Civil liberties, free market,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Judicial review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Independent judiciary (not elected) determines constitutionality of law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for Rat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9/13 (2/3) states needed to ratify to go into eff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Federalis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upported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nti-Federalis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not want to ratif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much nat’l power over st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much power to Congress &amp;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o mention of citizens’ right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ll of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titution gave no protection of people’s righ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 speech/thought, right to bear arms, fair trial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de Constitution a “living document”- could change gov w/o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rted with 10 amendments, 27 to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2:23Z</dcterms:created>
  <dc:creator>L-Net</dc:creator>
  <dc:description/>
  <dc:language>en-US</dc:language>
  <cp:lastModifiedBy>Danielson, Jason</cp:lastModifiedBy>
  <dcterms:modified xsi:type="dcterms:W3CDTF">2011-09-08T19:27:24Z</dcterms:modified>
  <cp:revision>11</cp:revision>
  <dc:subject/>
  <dc:title>The Constitution</dc:title>
</cp:coreProperties>
</file>